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2600" dir="162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832F-0D8F-4C19-B116-ED3B473F8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MSI 641 Software Engine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or Jeffrey P. Lankf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 Tea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bana J. Venugo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kintunde Ajay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ig E. 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is from the System Requirements docu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detailed breakdown of work into tasks can be found in Section 6 of the project plan docu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4588-527E-4EBA-9E29-CFA31FA1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3B15-69BD-4D7F-BC6C-5C5B20A8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4AAF-289F-49B3-9F23-6BC5A2E3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7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7496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219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7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7496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DC37-1D2D-40D1-A7EC-19DDE9EEB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304F-964D-49A7-A96B-EE572341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0741-E69C-4D68-91F8-B23F4404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5BA0-17E7-4B49-A680-2D7E62C6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CB3E-FD21-4427-8CFC-CAE9EF52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4FD2-E682-44C1-B245-25E2C618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0822-15DE-46FF-829D-E3575537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F395-6904-47F1-80A0-F03E0730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062C-2221-4292-8509-427A0EFA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DBE3-1076-46E5-AA76-EF61EB3A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5C64-836D-4E88-A054-E6B96CC2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7D5A-92EA-4003-9BE2-6926523B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DABB-6E11-4F67-A14B-78E5ED8F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47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7496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9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47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7496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D878-F29A-4B43-9AF4-F253CA76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9FD5-F060-418D-A352-DE10D204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E93D-34F0-4F1A-B912-E884076A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07B9-AC00-4350-AAE6-0A46636E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72E9-0628-4474-AB8E-02F34EE6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018C-B1F7-47D8-AFD2-C918EF45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1194-450D-4DEA-8FC3-95D12B28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C63F-F105-4AAA-A057-0D8A5B6E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66680" y="1459080"/>
            <a:ext cx="8077320" cy="5398920"/>
          </a:xfrm>
          <a:prstGeom prst="rect">
            <a:avLst/>
          </a:prstGeom>
          <a:gradFill rotWithShape="0">
            <a:gsLst>
              <a:gs pos="0">
                <a:srgbClr val="1822cd"/>
              </a:gs>
              <a:gs pos="100000">
                <a:srgbClr val="0508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447920"/>
            <a:ext cx="1066680" cy="5410080"/>
          </a:xfrm>
          <a:prstGeom prst="rect">
            <a:avLst/>
          </a:prstGeom>
          <a:gradFill rotWithShape="0">
            <a:gsLst>
              <a:gs pos="0">
                <a:srgbClr val="03041b"/>
              </a:gs>
              <a:gs pos="100000">
                <a:srgbClr val="1822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0/9/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jay, Venugopal, War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0357-8941-4913-A0EF-3397780F9E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355680"/>
            <a:ext cx="6172200" cy="2438280"/>
            <a:chOff x="0" y="355680"/>
            <a:chExt cx="6172200" cy="2438280"/>
          </a:xfrm>
        </p:grpSpPr>
        <p:sp>
          <p:nvSpPr>
            <p:cNvPr id="6" name=""/>
            <p:cNvSpPr/>
            <p:nvPr/>
          </p:nvSpPr>
          <p:spPr>
            <a:xfrm>
              <a:off x="789120" y="1144440"/>
              <a:ext cx="573120" cy="569880"/>
            </a:xfrm>
            <a:prstGeom prst="ellipse">
              <a:avLst/>
            </a:prstGeom>
            <a:gradFill rotWithShape="0">
              <a:gsLst>
                <a:gs pos="0">
                  <a:srgbClr val="1822cd"/>
                </a:gs>
                <a:gs pos="100000">
                  <a:srgbClr val="070a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42840" y="1311120"/>
              <a:ext cx="260640" cy="24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1822c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441440"/>
              <a:ext cx="228600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076400" y="355680"/>
              <a:ext cx="9360" cy="243828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44440" y="1441440"/>
              <a:ext cx="502776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8840" indent="-228600">
              <a:spcBef>
                <a:spcPts val="7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7156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7156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7156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66680" y="2995560"/>
            <a:ext cx="8077320" cy="3862440"/>
          </a:xfrm>
          <a:prstGeom prst="rect">
            <a:avLst/>
          </a:prstGeom>
          <a:gradFill rotWithShape="0">
            <a:gsLst>
              <a:gs pos="0">
                <a:srgbClr val="1822cd"/>
              </a:gs>
              <a:gs pos="100000">
                <a:srgbClr val="0508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95560"/>
            <a:ext cx="1066680" cy="3862440"/>
          </a:xfrm>
          <a:prstGeom prst="rect">
            <a:avLst/>
          </a:prstGeom>
          <a:gradFill rotWithShape="0">
            <a:gsLst>
              <a:gs pos="0">
                <a:srgbClr val="03041b"/>
              </a:gs>
              <a:gs pos="100000">
                <a:srgbClr val="1822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B6E8-79B4-46D5-B9CF-8A019C20EA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1905120"/>
            <a:ext cx="6172200" cy="2438280"/>
            <a:chOff x="0" y="1905120"/>
            <a:chExt cx="6172200" cy="2438280"/>
          </a:xfrm>
        </p:grpSpPr>
        <p:sp>
          <p:nvSpPr>
            <p:cNvPr id="55" name=""/>
            <p:cNvSpPr/>
            <p:nvPr/>
          </p:nvSpPr>
          <p:spPr>
            <a:xfrm>
              <a:off x="789120" y="2693880"/>
              <a:ext cx="573120" cy="569880"/>
            </a:xfrm>
            <a:prstGeom prst="ellipse">
              <a:avLst/>
            </a:prstGeom>
            <a:gradFill rotWithShape="0">
              <a:gsLst>
                <a:gs pos="0">
                  <a:srgbClr val="1822cd"/>
                </a:gs>
                <a:gs pos="100000">
                  <a:srgbClr val="070a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42840" y="2860560"/>
              <a:ext cx="260640" cy="24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1822c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990880"/>
              <a:ext cx="228600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76400" y="1905120"/>
              <a:ext cx="9360" cy="243828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44440" y="2990880"/>
              <a:ext cx="502776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Automated Media Asset Management System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liminary Design Re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/15/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SI 641 Fall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4744-C873-428F-A0F1-9D7B22A679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Architecture Design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s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r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BE57-AEEF-49D4-B874-AA008D65B274}" type="slidenum">
              <a:t>10</a:t>
            </a:fld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Architecture Design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6326280" cy="436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922C-60B9-4033-A84C-F986316FB8C6}" type="slidenum">
              <a:t>11</a:t>
            </a:fld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ommon Use Case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876920" cy="436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34AA-23F7-47AF-91A3-E7A3AFE71BCB}" type="slidenum">
              <a:t>12</a:t>
            </a:fld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Staff-only Use Case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>
            <a:lum contrast="50000"/>
          </a:blip>
          <a:stretch/>
        </p:blipFill>
        <p:spPr>
          <a:xfrm>
            <a:off x="2666880" y="1523880"/>
            <a:ext cx="4268880" cy="448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1EB6-21B3-4190-BECA-A5713207A80E}" type="slidenum">
              <a:t>13</a:t>
            </a:fld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324480" y="1143000"/>
            <a:ext cx="1676520" cy="304920"/>
          </a:xfrm>
          <a:prstGeom prst="rect">
            <a:avLst/>
          </a:prstGeom>
          <a:solidFill>
            <a:srgbClr val="0a0e5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cul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1447920"/>
            <a:ext cx="1676520" cy="1523880"/>
          </a:xfrm>
          <a:prstGeom prst="rect">
            <a:avLst/>
          </a:prstGeom>
          <a:solidFill>
            <a:srgbClr val="0a0e5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part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part ph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u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urse des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685800"/>
            <a:ext cx="1600200" cy="1143000"/>
          </a:xfrm>
          <a:prstGeom prst="rect">
            <a:avLst/>
          </a:prstGeom>
          <a:solidFill>
            <a:srgbClr val="0a0e5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gr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j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T/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380880"/>
            <a:ext cx="1600200" cy="304920"/>
          </a:xfrm>
          <a:prstGeom prst="rect">
            <a:avLst/>
          </a:prstGeom>
          <a:solidFill>
            <a:srgbClr val="0a0e5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ud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3352680"/>
            <a:ext cx="1676520" cy="304920"/>
          </a:xfrm>
          <a:prstGeom prst="rect">
            <a:avLst/>
          </a:prstGeom>
          <a:solidFill>
            <a:srgbClr val="0a0e5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3657600"/>
            <a:ext cx="1676520" cy="1143000"/>
          </a:xfrm>
          <a:prstGeom prst="rect">
            <a:avLst/>
          </a:prstGeom>
          <a:solidFill>
            <a:srgbClr val="0a0e5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itle 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uth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ynop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685800"/>
            <a:ext cx="2057400" cy="1676520"/>
          </a:xfrm>
          <a:prstGeom prst="rect">
            <a:avLst/>
          </a:prstGeom>
          <a:solidFill>
            <a:srgbClr val="0a0e5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rst 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st 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h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ic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380880"/>
            <a:ext cx="2057400" cy="393840"/>
          </a:xfrm>
          <a:prstGeom prst="rect">
            <a:avLst/>
          </a:prstGeom>
          <a:solidFill>
            <a:srgbClr val="0a0e5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tr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3657600"/>
            <a:ext cx="1752480" cy="1143000"/>
          </a:xfrm>
          <a:prstGeom prst="rect">
            <a:avLst/>
          </a:prstGeom>
          <a:solidFill>
            <a:srgbClr val="0a0e5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et 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itle 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et ty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3352680"/>
            <a:ext cx="1752480" cy="304920"/>
          </a:xfrm>
          <a:prstGeom prst="rect">
            <a:avLst/>
          </a:prstGeom>
          <a:solidFill>
            <a:srgbClr val="0a0e5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2438280"/>
            <a:ext cx="1600200" cy="762120"/>
          </a:xfrm>
          <a:prstGeom prst="rect">
            <a:avLst/>
          </a:prstGeom>
          <a:solidFill>
            <a:srgbClr val="0a0e5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part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part ph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2133720"/>
            <a:ext cx="1600200" cy="304560"/>
          </a:xfrm>
          <a:prstGeom prst="rect">
            <a:avLst/>
          </a:prstGeom>
          <a:solidFill>
            <a:srgbClr val="0a0e5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f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7621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s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17524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s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20574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s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76212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76212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2362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9920" y="17524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20574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57600" y="20574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38680" y="40384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3809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s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3809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53080" y="3809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3581280"/>
            <a:ext cx="2057400" cy="1219320"/>
          </a:xfrm>
          <a:prstGeom prst="rect">
            <a:avLst/>
          </a:prstGeom>
          <a:solidFill>
            <a:srgbClr val="0a0e5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et 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ut d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ue d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tron 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3276720"/>
            <a:ext cx="2057400" cy="304560"/>
          </a:xfrm>
          <a:prstGeom prst="rect">
            <a:avLst/>
          </a:prstGeom>
          <a:solidFill>
            <a:srgbClr val="0a0e5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23623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2971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,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17524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666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orr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38862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1280" y="38862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38862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14600" y="41148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514240" y="205740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514600" y="22860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514600" y="10666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5562720"/>
            <a:ext cx="1600200" cy="761760"/>
          </a:xfrm>
          <a:prstGeom prst="rect">
            <a:avLst/>
          </a:prstGeom>
          <a:solidFill>
            <a:srgbClr val="0a0e5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B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d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5257800"/>
            <a:ext cx="1600200" cy="304920"/>
          </a:xfrm>
          <a:prstGeom prst="rect">
            <a:avLst/>
          </a:prstGeom>
          <a:solidFill>
            <a:srgbClr val="0a0e5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5562720"/>
            <a:ext cx="1600200" cy="761760"/>
          </a:xfrm>
          <a:prstGeom prst="rect">
            <a:avLst/>
          </a:prstGeom>
          <a:solidFill>
            <a:srgbClr val="0a0e5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P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9880" y="5257800"/>
            <a:ext cx="1600200" cy="304920"/>
          </a:xfrm>
          <a:prstGeom prst="rect">
            <a:avLst/>
          </a:prstGeom>
          <a:solidFill>
            <a:srgbClr val="0a0e5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ltimed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5880" y="5562720"/>
            <a:ext cx="1600200" cy="761760"/>
          </a:xfrm>
          <a:prstGeom prst="rect">
            <a:avLst/>
          </a:prstGeom>
          <a:solidFill>
            <a:srgbClr val="0a0e5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icrofilm 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5257800"/>
            <a:ext cx="1600200" cy="304920"/>
          </a:xfrm>
          <a:prstGeom prst="rect">
            <a:avLst/>
          </a:prstGeom>
          <a:solidFill>
            <a:srgbClr val="0a0e5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icrofil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133720" y="51051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5105520"/>
            <a:ext cx="4724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5105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95680" y="50292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495680" y="48002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47242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50292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50292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50292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38480" y="48769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s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3812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60e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460ee"/>
                </a:solidFill>
                <a:latin typeface="Arial"/>
              </a:rPr>
              <a:t>Semantic Data Model</a:t>
            </a:r>
            <a:endParaRPr b="1" lang="en-US" sz="2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1842-6280-46BC-8D6C-9C93C4607DF4}" type="slidenum">
              <a:t>14</a:t>
            </a:fld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19920" y="152280"/>
            <a:ext cx="3047760" cy="6098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60ee"/>
                </a:solidFill>
                <a:latin typeface="Arial"/>
              </a:rPr>
              <a:t>Data Flow Models</a:t>
            </a:r>
            <a:endParaRPr b="1" lang="en-US" sz="2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609480"/>
            <a:ext cx="5410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460ee"/>
                </a:solidFill>
                <a:latin typeface="Arial"/>
              </a:rPr>
              <a:t>CATALOG SEARCH  MOD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47280" y="2565360"/>
            <a:ext cx="222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ort through media 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27432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68360" y="2336760"/>
            <a:ext cx="1919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put Search parame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edia Autho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itle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ject Category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edia Typ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274320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67280" y="2489040"/>
            <a:ext cx="128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ser Report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arch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320040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4419720"/>
            <a:ext cx="137160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1440" y="4546440"/>
            <a:ext cx="96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lational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2286000"/>
            <a:ext cx="220968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56880" y="3556080"/>
            <a:ext cx="15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arch Parame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DA66-B4EA-4950-8C4A-063FC668449F}" type="slidenum">
              <a:t>15</a:t>
            </a:fld>
          </a:p>
        </p:txBody>
      </p:sp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90960" y="151920"/>
            <a:ext cx="3276360" cy="12956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60ee"/>
                </a:solidFill>
                <a:latin typeface="Arial"/>
              </a:rPr>
              <a:t>Data Flow Models</a:t>
            </a:r>
            <a:br>
              <a:rPr sz="2400"/>
            </a:br>
            <a:r>
              <a:rPr b="1" lang="en-US" sz="2400" spc="-1" strike="noStrike">
                <a:solidFill>
                  <a:srgbClr val="4460ee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685800"/>
            <a:ext cx="3886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460ee"/>
                </a:solidFill>
                <a:latin typeface="Arial"/>
              </a:rPr>
              <a:t>ASSET CHECK-IN / OUT MOD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297180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89548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5880" y="2678040"/>
            <a:ext cx="1344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put Med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tails + Patr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D-Numb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40120" y="2678040"/>
            <a:ext cx="120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pdate Patr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tai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70560" y="2754360"/>
            <a:ext cx="119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pdate Med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335268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05120" y="4572000"/>
            <a:ext cx="129528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57800" y="4572000"/>
            <a:ext cx="129528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436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93160" y="4583160"/>
            <a:ext cx="95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lational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40480" y="4583160"/>
            <a:ext cx="96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lational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0" y="28954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352680" y="1905120"/>
            <a:ext cx="13716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89480" y="191628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ser Rep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17720" y="267804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edia Detai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70760" y="260208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ser Rep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2590920"/>
            <a:ext cx="167652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05520" y="2666880"/>
            <a:ext cx="167616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93480" y="3745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tron ID N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42560" y="3745080"/>
            <a:ext cx="164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edia Identif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0D5F-4A22-4FEF-91F1-1BAAEA7B78EF}" type="slidenum">
              <a:t>16</a:t>
            </a:fld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867280" y="152280"/>
            <a:ext cx="3200400" cy="6098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60ee"/>
                </a:solidFill>
                <a:latin typeface="Arial"/>
              </a:rPr>
              <a:t>Data Flow Models</a:t>
            </a:r>
            <a:endParaRPr b="1" lang="en-US" sz="2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19520" y="685800"/>
            <a:ext cx="3886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460ee"/>
                </a:solidFill>
                <a:latin typeface="Arial"/>
              </a:rPr>
              <a:t>ASSET RESERVE PLACEMENT MOD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29718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289548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5880" y="2678040"/>
            <a:ext cx="1344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put Med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tails + Patr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D-Numb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7720" y="2565360"/>
            <a:ext cx="136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heck Patr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tus: Must B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aculty Memb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81680" y="2717640"/>
            <a:ext cx="119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pdate Med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90920" y="335268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05120" y="4572000"/>
            <a:ext cx="129528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14800" y="4572000"/>
            <a:ext cx="129528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428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42320" y="4622760"/>
            <a:ext cx="96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lational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40480" y="4583160"/>
            <a:ext cx="96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lational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67280" y="29718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666880" y="1828440"/>
            <a:ext cx="13716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203184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ser Rep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360" y="2743200"/>
            <a:ext cx="69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tr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tai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924680" y="271764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ser Rep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35960" y="2870280"/>
            <a:ext cx="180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pdate Patron Detai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29718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5334120" y="1980720"/>
            <a:ext cx="9144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46880" y="214488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ser Rep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43960" y="2743200"/>
            <a:ext cx="68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ed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tai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4572000"/>
            <a:ext cx="129564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238880" y="32767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688800" y="4583160"/>
            <a:ext cx="96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lational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52480" y="2590920"/>
            <a:ext cx="144792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2743200"/>
            <a:ext cx="175248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2590920"/>
            <a:ext cx="114300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95640" y="3821040"/>
            <a:ext cx="71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tr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D. N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29000" y="3745080"/>
            <a:ext cx="67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tr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D N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66920" y="359244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edia I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435F-90AF-42D1-B216-E3983734B548}" type="slidenum">
              <a:t>17</a:t>
            </a:fld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71840" y="15228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60ee"/>
                </a:solidFill>
                <a:latin typeface="Arial"/>
              </a:rPr>
              <a:t>Data Flow Models</a:t>
            </a:r>
            <a:endParaRPr b="1" lang="en-US" sz="2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32960" y="762120"/>
            <a:ext cx="31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460ee"/>
                </a:solidFill>
                <a:latin typeface="Times New Roman"/>
              </a:rPr>
              <a:t>CATALOG</a:t>
            </a:r>
            <a:r>
              <a:rPr b="0" lang="en-US" sz="14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460ee"/>
                </a:solidFill>
                <a:latin typeface="Times New Roman"/>
              </a:rPr>
              <a:t>MANAGEMENT MODEL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60ee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4460ee"/>
                </a:solidFill>
                <a:latin typeface="Times New Roman"/>
              </a:rPr>
              <a:t>New Asset Operation</a:t>
            </a:r>
            <a:r>
              <a:rPr b="0" lang="en-US" sz="14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29718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8954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0" y="2641680"/>
            <a:ext cx="118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ew Medi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or, Tit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SBN No. etc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67040" y="2641680"/>
            <a:ext cx="125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mplete Ne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edia Detail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o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162920" y="2717640"/>
            <a:ext cx="116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ttach (MI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Med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4572000"/>
            <a:ext cx="129528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8128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04000" y="4648320"/>
            <a:ext cx="84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tion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00800" y="29718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08960" y="2666880"/>
            <a:ext cx="96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mple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o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05920" y="2717640"/>
            <a:ext cx="71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p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2743200"/>
            <a:ext cx="119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pdate Med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bas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05920" y="29718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44120" y="2666880"/>
            <a:ext cx="6379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ed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ai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67080" y="28954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2590920"/>
            <a:ext cx="1143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2590920"/>
            <a:ext cx="1143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05520" y="2590920"/>
            <a:ext cx="129528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1981080"/>
            <a:ext cx="9144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05320" y="203184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ser Rep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78200" y="266688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MI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162920" y="2590920"/>
            <a:ext cx="106668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05520" y="2641680"/>
            <a:ext cx="127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lot Medi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dentificat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umber (MI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52880" y="4572000"/>
            <a:ext cx="129564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69240" y="4608360"/>
            <a:ext cx="84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tion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6386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87080" y="3770280"/>
            <a:ext cx="61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d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ai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44480" y="3618000"/>
            <a:ext cx="61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di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ai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67EC-A9F3-4B4B-9822-C113B582C8CF}" type="slidenum">
              <a:t>18</a:t>
            </a:fld>
          </a:p>
        </p:txBody>
      </p:sp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19920" y="152280"/>
            <a:ext cx="3047760" cy="5335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60ee"/>
                </a:solidFill>
                <a:latin typeface="Arial"/>
              </a:rPr>
              <a:t>Data Flow Models</a:t>
            </a:r>
            <a:endParaRPr b="1" lang="en-US" sz="2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666880" y="762120"/>
            <a:ext cx="3962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460ee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460ee"/>
                </a:solidFill>
                <a:latin typeface="Arial"/>
              </a:rPr>
              <a:t>LIBRARY PATRON MAINTAINANCE MODEL: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4460ee"/>
                </a:solidFill>
                <a:latin typeface="Arial"/>
              </a:rPr>
              <a:t>New Patron Ope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32767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" y="32004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5720" y="2946240"/>
            <a:ext cx="107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put Patr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tai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95640" y="2946240"/>
            <a:ext cx="125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mplete Ne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tron Fo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0720" y="2946240"/>
            <a:ext cx="129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Ne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tron Accou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95680" y="35053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33920" y="4038480"/>
            <a:ext cx="12952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4114800"/>
            <a:ext cx="12952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10280" y="36576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628320" y="4089240"/>
            <a:ext cx="96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lational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61440" y="4013280"/>
            <a:ext cx="96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lational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20120" y="32767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4120" y="302256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ser Rep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36120" y="302256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mpleted Fo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772400" y="3022560"/>
            <a:ext cx="123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ser Report +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tron ID. N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2895480"/>
            <a:ext cx="12193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2895480"/>
            <a:ext cx="137160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553080" y="2895480"/>
            <a:ext cx="106704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57800" y="32767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552720" y="3022560"/>
            <a:ext cx="118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lot New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tron ID N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1080" y="3556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tron Detai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535800" y="366876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tron Detai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E832-5D96-4EEF-B561-F2B66FCA0EDF}" type="slidenum">
              <a:t>19</a:t>
            </a:fld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oduction -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rai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 Plan -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rai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sibility Study and Risk Analysis -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kint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r Requirements -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hoba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chitecture Design -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rai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Cases -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rai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mantic Model -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hoba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Flow Models-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kint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estions -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67D4-36C6-4183-A06C-39FCD1D87088}" type="slidenum">
              <a:t>2</a:t>
            </a:fld>
          </a:p>
        </p:txBody>
      </p:sp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Questions?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E07F-BF2A-4C25-AADD-5C903D3BB96B}" type="slidenum">
              <a:t>20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Project Plan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 around deliver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 Plan it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s Requirements Docu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 Design Docu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ementation and Deployment Plan Docu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tions Guide and User Manu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ystem imple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stalled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E4AA-EFC4-491C-A098-EBB1CE22CC2A}" type="slidenum">
              <a:t>3</a:t>
            </a:fld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Project Schedule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 Project Plan, Section 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500 staff-hours over 100 days du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 control built into the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92C8-CBE0-4EA1-A530-50D54B4EB4FB}" type="slidenum">
              <a:t>4</a:t>
            </a:fld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Feasibility And Risk Analysi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asibility Stud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Impact Assess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erials Procur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power Impact Assess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st Assess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efi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F414-8233-4FD0-B620-9FAAE240C093}" type="slidenum">
              <a:t>5</a:t>
            </a:fld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Feasibility And Risk Analysi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sk Analys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siness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sk 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sk Pla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562C-A270-494E-A8BA-FE2DB89EE0B8}" type="slidenum">
              <a:t>6</a:t>
            </a:fld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User Requirement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al Requirem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arch Catalo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ck-out As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ck-in As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new Check-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ld As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593E-BFE1-4234-84C1-8BAC0204FDE7}" type="slidenum">
              <a:t>7</a:t>
            </a:fld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User Requirement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al Requirements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due No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rve Placement Requ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/Update As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ntain Patr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0854-F99E-4E7F-8B77-99E825335EE3}" type="slidenum">
              <a:t>8</a:t>
            </a:fld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User Requirement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 Functional Requirem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r Friendly Interface - Easy to use, self-explana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ed - 5 sec or l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ume - Ability to store 1,000,000 asset i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essibility - Should have the capacity to handle 100 users/m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DC2F-2582-4E65-BEB6-EEE671762856}" type="slidenum">
              <a:t>9</a:t>
            </a:fld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5:10:34Z</dcterms:created>
  <dc:creator>Craig Ward</dc:creator>
  <dc:description/>
  <dc:language>en-US</dc:language>
  <cp:lastModifiedBy>Craig Ward</cp:lastModifiedBy>
  <cp:lastPrinted>1904-01-01T00:00:00Z</cp:lastPrinted>
  <dcterms:modified xsi:type="dcterms:W3CDTF">2002-10-12T00:03:45Z</dcterms:modified>
  <cp:revision>14</cp:revision>
  <dc:subject/>
  <dc:title>Automated Media Asset Management System</dc:title>
</cp:coreProperties>
</file>